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42B9-2EE2-43D7-891C-6A8017A8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BB83-61B6-4B15-922A-C28C713E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FD4E-8AB2-4E18-A20E-CD885DDC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899C-37D3-4DE7-8C49-A81E05C2D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96B0-1EE3-415C-95C0-2186F635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3DD8-7EE2-47C3-A692-0C4C3124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D1EE-3972-442E-BAE6-4E9199BA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7CE7-9D69-4DB7-9C02-8A2FDDEF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08E7-08AC-4582-88CF-492FD369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03FD-C7C5-42EF-AA4B-BA119863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BE17-84DB-4546-9951-D29F2D80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29AA-3CBE-4E88-A733-C5164035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F401-5164-4A57-BE34-EAC12B32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3B15-C753-4E81-93E4-F3667BC9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A444-8386-4A35-BB0F-D5DEEB61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DBEA-7143-4890-8B72-65E68C52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A87C-93B7-4329-8EFE-2498CE27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988405-5C9A-4045-A451-556CFF9C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79F6B4-A6EC-408A-9A27-0C7CEDDC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FF9A0B-4539-4CF7-B9D3-CE7B8D74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47739-8000-4E8E-A0B3-D44A5CBA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B42153-DDFB-44E2-AF54-E5234F53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ACC9-BCCA-4B23-80C4-BB32957D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A48C8-FEC3-4027-B9FA-C93D1D57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2A8B9-4638-42C5-A8A2-1C0859FF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7099C5-8FCF-4FBF-B5F9-1F7BE4E3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AADB9-1250-4FE4-8F3F-96BF06C1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A3785-A7A9-4F9C-8D9E-A05E222E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4FC767-E638-4E97-B215-63414501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A3E94-C04A-4DC6-A829-BF77AE95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C3304-3161-4AA6-86A4-090F6561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D443A-9728-41B6-9A03-589F3B98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A8FE6-1B7F-417E-ADF7-1377CEBE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5838-F3C6-4DD1-A73D-4B53FE38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2865F-D45B-4157-B85E-D91DB59E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DC332-DD7B-4BAE-80A3-48F9DFA2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8F363-4F1F-4216-833E-717FA2AF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C7506-8843-4A40-BCF4-54EDA642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1E572-6893-4A68-8229-B5B07F3B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E465E-BDA0-4D9B-A07A-306F5CE3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CBCC1-F8A6-4433-8A0F-91E842CD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E21E6-6A67-4F2E-BF26-34C846AA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11B60-18DA-44FF-8FDF-BC1DAC56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6AFCCB-61FB-4B3D-BDCF-F71E3927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E506-C75B-429D-90AB-FD3B5D14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07B5DC-860D-459D-980B-2CEB0D9C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526817-D207-48BB-B4B0-7359C35B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36CC0A-05F7-4250-9D28-B671ABEF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9DF92A-4DF2-488F-91A8-A0712A81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1242EA-5DBE-46DC-8626-DF509B9E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289AF9-8430-4C4D-9C40-AE915626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1BC3EE-ADD8-4749-A574-7C145695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00ABAF-0217-4CD8-AEA2-17359ADC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11D6DD-B145-4E3C-9581-714144DD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B23D18-E3E3-416E-930C-3BCC9A09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1AD6-0669-46EC-BA9C-B98FE7E2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19F314-4C93-4087-A949-78F4B1EE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212446-06C6-473E-A7A3-410BDA78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BEFAB3-344B-4B63-A01A-7B2101AA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9A9CA5-707B-4362-8C2F-57886E6B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76A358-670C-447F-A787-CFD7FED6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36B140-0E0C-47DE-B991-02085755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73B4B0-C11E-4965-B853-96BFCA5F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8F6A48-996E-4613-8099-D7E090B2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0EFACA-26E5-45BE-8AC9-F893C933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71EC63-C883-4C2B-ACF2-BFAE1CC3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D2C2-8DBC-45BB-802C-EABE7F05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E3977E-CA4D-4B3D-BB6B-2DDCEC33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9B1223-D670-4AA6-A944-4B45A240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3FE2B6-44D2-4731-A509-2FC0D528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43163F-07C4-4268-B6D4-2B555EE1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58DA62-2B0F-4EC1-9874-79B355B4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96A894-9D61-4CB1-B6A1-C08DD196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BABBA4-F3CC-4536-8F53-0E9806E7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CEDE9E-301E-43FE-9784-C5CE196F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BF8F76-5C53-42E0-B75D-9AAC9709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7DA58D-4249-47EA-9304-32B331DD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B0DA-6F19-4414-9C3B-D899982D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F70B6D-9DEB-4EAA-B8B7-7663A4D4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6F175E-2FE4-4E80-87E3-B3554451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007BD2-0FE0-48D1-B04D-FCC219CA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33CFD9-2FFE-4693-AD91-73AEAC05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49980A-4224-4E9A-9389-4A43BD41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FC8-6BAF-44C8-8FA0-8D18BBE4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E1F6-9B59-41D1-B007-98235E40F83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8F97-47D4-4F3C-9322-C8D0B41B0E0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E532-16EF-4B4F-8062-463E661FC55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3899-4E3B-4CC6-99D3-A4A45AFC838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5716-0720-4C92-A3F4-773A589399E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E8EB-2D1C-489F-ABA1-A83B0717006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9999-3A31-41CE-ACF2-E359271C4FD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050560" y="54900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И.С.ТУРГЕНЕВ. </a:t>
            </a:r>
            <a:br>
              <a:rPr sz="3000"/>
            </a:b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СТИХОТВОРЕНИЯ В ПРОЗ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00720" y="2852280"/>
            <a:ext cx="46432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Добрый мой читатель, не пробегай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этих стихов сподряд: тебе, вероятно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скучно станет…но читай их в враздробь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сегодня одно, завтра другое; и какое-нибудь из них, может быть, заронит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что-нибудь тебе в душу…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И. С. Тургенев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C:\Users\User\Desktop\тургенев.jpg"/>
          <p:cNvPicPr/>
          <p:nvPr/>
        </p:nvPicPr>
        <p:blipFill>
          <a:blip r:embed="rId1"/>
          <a:stretch/>
        </p:blipFill>
        <p:spPr>
          <a:xfrm>
            <a:off x="-190440" y="-480960"/>
            <a:ext cx="9524880" cy="78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6840" y="260280"/>
            <a:ext cx="814716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Весной 1862 г обнаружились первые признаки тяжёлой болезни, которая оказалась для писателя смертельной. Но в моменты временного облегчения страданий он продолжал работать и за несколько месяцев до смерти издал первую часть “Стихотворений в прозе”. Этот цикл лирических миниатюр явился своеобразным прощанием Тургенева с жизнью, родиной, искусством. Последняя книга Ивана Сергеевича собрала в себе главные темы и мотивы его творчества. Здесь выразилось преклонение перед силой самоотверженной любви и нравственнным величием подвига, увлечение пылким идеализмом молодости, тончайшее чувство природы, поэзии и красоты, а рядом с этим – ощущение разочарования и одиночества, ужас перед всемогуществом разрушительных сил смерти, усталое отвращение к лжи, пошлости и глупости, к из неизбывному присутствию в человеческой жизни. И всё это многообразие тем обрело эстетическую завершённость благодаря глубоко символическому обрамлению цикла. Книгу открывало стихотворение в прозе “Деревня” (“... на тысячу вёрст кругом Россия – родной край”), а завершал её “Русский язык”, лирический гимн (торжественное музыкальное произведение, прославляющее кого-либо), исполненный веры Тургенева в великое предназначение своей страны: “Во дни сомнений, во дни тягостных раздумий о судьбах моей родины – ты один мне поддержка и опора, о великий, могучий, правдивый и свободный русский язык! Не будь тебя – как не впасть в отчаяние при виде всего, что совершается дома? Но нельзя верить, чтобы такой язык не был дан великому народу!” Умер Тургенев от рака спинного мозга. Скончался в Буживале, близ Парижа, похоронен на Волковском кладбище в Петербурге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Всего Тургеневым было написано 50 стихотворений в прозе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8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6e84b4"/>
                </a:solidFill>
                <a:latin typeface="Century Schoolbook"/>
              </a:rPr>
              <a:t>ХАРАКТЕРНЫЕ ПРИЗНАКИ </a:t>
            </a:r>
            <a:br>
              <a:rPr sz="2700"/>
            </a:br>
            <a:r>
              <a:rPr b="1" lang="ru-RU" sz="2700" spc="-1" strike="noStrike">
                <a:solidFill>
                  <a:srgbClr val="6e84b4"/>
                </a:solidFill>
                <a:latin typeface="Century Schoolbook"/>
              </a:rPr>
              <a:t>СТИХОТВОРЕНИЯ В ПРОЗЕ: 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63640" y="2060280"/>
            <a:ext cx="616104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Прямоугольник 3"/>
          <p:cNvSpPr/>
          <p:nvPr/>
        </p:nvSpPr>
        <p:spPr>
          <a:xfrm>
            <a:off x="755640" y="191628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  <a:ea typeface="Arial"/>
              </a:rPr>
              <a:t>небольшой объ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  <a:ea typeface="Arial"/>
              </a:rPr>
              <a:t>членение на мелкие абза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  <a:ea typeface="Arial"/>
              </a:rPr>
              <a:t>повышенная эмоцион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  <a:ea typeface="Arial"/>
              </a:rPr>
              <a:t>обычно бессюжетная компози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  <a:ea typeface="Arial"/>
              </a:rPr>
              <a:t>наличие лирического гер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39640" y="2602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тихотворения  в прозе –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это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небольшие прозаические произведения, напоминающие по своему характеру лирические стихотворения, но лишенные стихотворной рифмы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ОСНОВНЫЕ ТЕМЫ СТИХОТВОРЕНИЙ В ПРОЗЕ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285560"/>
            <a:ext cx="850752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ичтожность человеческой жизни перед вечностью природы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размышления писателя о русском народе, родине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гуманность человеческих отношений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торжествующая любовь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ротивопоставление добра и зла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оспоминания о давней любви, о подвиге и трусости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русский язык, его роль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смысл человеческой жизни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молодость и старос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ОМАШНЕЕ ЗАД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ыучить наизусть одно из стихотворений в прозе И. С. Тургенев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роиллюстрировать любое понравившееся стихотворение в прозе (по желанию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Написать отзыв на любое стихотворение в прозе (по желанию можно сопроводить иллюстрацией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9:11:20Z</dcterms:created>
  <dc:creator>Marsel</dc:creator>
  <dc:description/>
  <dc:language>en-US</dc:language>
  <cp:lastModifiedBy>User</cp:lastModifiedBy>
  <dcterms:modified xsi:type="dcterms:W3CDTF">2021-12-27T01:49:19Z</dcterms:modified>
  <cp:revision>10</cp:revision>
  <dc:subject/>
  <dc:title>Слайд 1</dc:title>
</cp:coreProperties>
</file>